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 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0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ter 1.0  EE   +/-   14    4.0   EE   +/-  5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 2.5 x 10 -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solution is 5 x 10 -5 M.  What is the [H3O+ 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 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water solution is 5 x 10-5 M.  What is the [H3O+]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]  =  1.0 x 10 -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10-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calcula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 EE  +/-  14   5  EE  +/-  5 =  2 x 10 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The [OH-] when [H3O+ ] of 1 x 10-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6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-8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The [H3O+] when [OH- ] of 5 x  10-9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 6 M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2 x 10- 6 M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2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w  =   [H3O+ ][OH-]   =  1.0 x 10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(3) [OH- ] =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1.0 x 10 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.0 x 10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(2) [H3O+]  =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2 x 10 -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 x 10- 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acidity [H3O+] of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 =  - log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French pouvoir hydroge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hydrogen power” or pow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 for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ex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 =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   1   2   3  4  5   6    7  8  9  10  11  12  13 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&gt;[OH-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[H+] = [OH-]             [OH-]&gt;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5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9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11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mon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inega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ange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ffe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in water, a H+ is transferred between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         . .                   . .    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:O:  +    :O:H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:O:H +     +   :O: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. 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s     hydronium     hydr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ion (+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ion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 [H3O+] of tomato juice is 1 x 10-4 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-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[OH-] of an ammonia solu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3 M.  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H = - log [ 1 x 10-4] = -(- 4)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[H3O+]  = 1 x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- log [ 1 x 10- 11] = -(- 11)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 - 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 - 1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n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is 4.5 x 10-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  4.5  x  EXP(or EE) 6+/- LOG +/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5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 x 10-8 M.  What is the pH of the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.0 x 10-8 M.  What is the pH of the solution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 2.0    EE    8    +/-    LOG   +/-  =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__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 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 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3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contains small, but equal amounts of ions:  H3O+ and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nium hydroxid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io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7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1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olluted rain has a pH of 5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with a pH below 5.6 is “acid rai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in the air forms carbon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+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to H+ of 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(aq) +  HCO3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cid 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St Helens (1980) 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ctions in the atmosphere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O2  + O2     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actions with atmosphere wate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3  +  H2O      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 +  H2O      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2 +  H2O    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Acid Rai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efin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with high 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and truck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t. St Helens (1980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oxygen in air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SO2  + O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water in ai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3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+  H2O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ches Al from soil, which kills f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Product of Water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           ] =  Molar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 ]  [ OH- 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1 x 10-7  ][ 1 x 10-7 ]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rease H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g)  +  H2O (l)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 (aq)  + 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e [H3O+] than water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H3O+ increases, OH-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H3O+] &gt;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the hydroxide ions (OH-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s)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Na+(aq)  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[OH-] than water, [OH-]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OH- increases, H3O+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] &gt;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 ] of a solution is 1.0 x 10- 3 M. What is the [H3O+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 ] [OH- 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1.0 x 10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3 M.  What is the [OH-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 3 M.  What is the [OH-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 ]  =   1.0 x 10 -14    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CF2-8097-4C8F-8425-8ED1115E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032-9F7C-4D42-BCED-CD9FC686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0FF-BEDE-4AF3-A99B-09692D45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A0A-B266-4DA5-AE65-3F54C9DD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A93-C7CB-46EB-BF18-37B2C441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873-D1D5-4308-95DA-2FED2E6D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5C0-FFD5-4FA8-B9AF-693817A1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437-380E-401F-B8C1-458916B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2C8-C1E8-438A-B4A1-87B17941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136-73C9-49D0-A6CA-FA2104D3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517-F05F-4D72-B70F-31A50D0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352-CBFD-41EE-BBF4-859B943B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7B44-37C8-4C15-A712-76C392A3349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n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EE   +/-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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E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/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.5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55124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0968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04812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34340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7913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7057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-] of a solution is 5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5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a water solution is 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n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n some calculator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EE  +/-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E  +/-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438280" y="38862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8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5 x 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=   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][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 =  1.0 x 10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3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 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9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2956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s the acidity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he solu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  =  - log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Frenc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ouvoir hydrogen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(“hydrogen power” or power of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expression fo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exponent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xponent = pH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  =   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R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cid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as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and 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Acid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ic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nega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ange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asionally, in water, a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s transferred between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          . .                   . .    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. 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water molecule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hydronium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ydroxid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ion (+)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ion (-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1676520" y="3962520"/>
            <a:ext cx="914400" cy="7617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809880" y="3962520"/>
            <a:ext cx="5335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3657600" y="4191120"/>
            <a:ext cx="91440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Base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wat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8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 of magnes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sehold ammo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Object 4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4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The 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- 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n ammonia solution i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 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4) = 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=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1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11) = 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 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p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on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is 4.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  4.5  x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XP(or E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6+/-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LOG +/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5.3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192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5289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)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.0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8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/-    LOG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+/-  =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288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419720" y="4724280"/>
            <a:ext cx="1143000" cy="76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7150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____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e Water is Neut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e water contains small, but equal amounts of ions: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 + 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+   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nium hydroxi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429000" y="419112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434340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81080" y="4343400"/>
            <a:ext cx="99072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npolluted rain has a pH of 5.6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ain with a pH below 5.6 is “acid rain“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the air forms carbon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s to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f rai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(aq) +  H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-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mation of acid rai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Reactions in the atmosphere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Reactions with atmosphere wate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Effects of Acid R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581280" y="5562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urces of Acid Rai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wer sta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il refiner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al with high S cont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 and truck emiss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cterial decomposition, and lighting hitting N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Object 4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oxygen in air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 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water in ai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3276720" y="32004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276720" y="4572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276720" y="51814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s of 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ches Al from soil, which kills fis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 Product of Water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[            ] =  Molar concentration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[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9900"/>
                </a:solidFill>
                <a:latin typeface="Arial"/>
              </a:rPr>
              <a:t>-14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l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 &gt;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 &gt;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5880" y="441972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238880" y="5334120"/>
            <a:ext cx="8384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267080" y="2590920"/>
            <a:ext cx="6098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the hydroxide ions (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s)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    +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,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 &gt; 1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&gt;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172200" y="56386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162920" y="4876920"/>
            <a:ext cx="914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590920" y="3657600"/>
            <a:ext cx="5331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 solution is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. What is 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16292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209680" y="434340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2:30:38Z</dcterms:created>
  <dc:creator>Karen Timberlake</dc:creator>
  <dc:description/>
  <dc:language>en-US</dc:language>
  <cp:lastModifiedBy>LEGION</cp:lastModifiedBy>
  <dcterms:modified xsi:type="dcterms:W3CDTF">2017-01-26T09:13:18Z</dcterms:modified>
  <cp:revision>4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